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E1EED-7829-490E-8EF8-B9D7FCDA31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2DA90-D26C-49F2-B4C9-B9EDC397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B13D-9BBE-46A7-980B-61893BF4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AA702-BD5C-4AD0-A828-513843754F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59B8B-CB4A-476A-89C9-A7C40665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C6C91-2D2E-4804-B4D4-B4CDD801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4B88E-59F9-4151-97F7-8971E762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8484A-6396-4F75-B731-4828A1BB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78F98-256D-4C8E-B8D2-7DB059EB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AFBC8-8DF6-4B20-99DF-184656F2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B3B37-4CBC-41C2-A0A3-3359A43F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F3EAB-E681-4A46-9580-E557C6E9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4B81-EDDD-4152-B811-B0B199C872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idal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112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0600" y="616572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0600" y="616572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4600" y="6165720"/>
            <a:ext cx="871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talk about the picture with your grou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discuss how tidal power generates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2920" y="640080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y the animation and check if you described the process correctly in exercis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write sentenc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8:05Z</dcterms:modified>
  <cp:revision>29</cp:revision>
  <dc:subject/>
  <dc:title>  </dc:title>
</cp:coreProperties>
</file>